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788-BDF0-49FE-B01B-EEBB2A6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8D5-C568-4B6D-BA5F-084AF1EC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93C-96A3-4C2E-BDD9-410CFCF2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00E-9D93-45E0-82B9-FBE31C3F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F934-6692-43C5-B641-C147E00D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EFD8-48F7-44B5-B056-C211E8EE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3D9-080C-498C-A208-1C7E1F64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C3A9-12C7-48C7-95B5-0DA4C80B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60E-0B6D-46D7-B304-C7517A0E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22B5-7EF1-400A-AB70-EA73B05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BC28-156D-44B0-B4C9-066024A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824-C910-4606-BB8C-02BFD73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09BC-4BFD-4875-805B-149E388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FB3D-7FC4-4F06-9893-F7CE2EF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CE53-6C52-48EA-83B5-54A15A12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7480-391C-4E15-BB06-BAFDD00E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0903-99B1-4BC4-A1B3-B47E84AB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BF7-AAD5-4FB7-8417-ED3F75F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945-BBE8-4C36-9173-075A445A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7B8-2E96-45DC-85FA-F5C61D17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D09-0E50-437C-BFAF-63FC973D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050-12B7-4671-94D7-02918EE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1B6-27AE-4ED0-A89E-EF46E7D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642-A64A-4BFC-9FB0-0958F995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F894-254D-4794-970C-A4C7331CE2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11A5-8F61-4248-AD4B-5844DF539A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4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4149720"/>
            <a:ext cx="8281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изическая сущность процессов изменения надежности конструктивных элементов автомобилей при их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Наиболее типичными являются следующие виды дефектов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ые дефекты (вакансии, межузельные атомы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мерные (линейные) дефекты (дислокации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умерные поверхностные дефекты (границы зерен и двойников, дефекты упаковки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хмерные (объемные) дефекты (пустоты, включения и др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Процессы механического разрушения твердых тел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корость процессов механического разрушения деталей зависит от структуры и свойств материала, геометрической формы и состояния поверхности, от напряжения, вызываемого нагрузкой и температурой. В настоящее время экспериментально получена зависимость между ресурсом материала, напряжением и температуро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71640" y="2781360"/>
          <a:ext cx="2880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781360"/>
                    <a:ext cx="2880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9280" y="3949560"/>
            <a:ext cx="8713800" cy="26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работка до отказа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араметр, совпадающий по значению с периодом собственных тепловых колебаний атомов в кристаллической решетке твердого тела (τ0 = 10-12... 10-14 с), постоянный для всех материалов и не зависящий от обработки материала и условий нагрузки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чальная энергия активации процесса разрушения 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σ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стоянная для данного матери­ала в широкой области температур и не зависящая от обработки материала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нергия активации разруш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характеристика чувствительности материала к напряжению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ая газовая постоянная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темпе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Старение материалов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ением материалов называются процессы изменения их физико-механических свойств во времени в условиях длительного хранения или эксплуа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ение материала может приводить как к улучшению, так и к ухудшению отдельных свойств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старению металлов и сплавов следует относить все процессы изменения во времени их свойств, связанные с превращениями металлов и сплавов в тверд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Эти процессы можно разделить на дв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вращения, связанные только с изменением кристаллической структуры, протекающие без изменения химического состава образующихся при превращении ф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вращения, сопровождающиеся образованием фаз с измененным химическим соста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3. Отказы по параметрам проч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808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рочность 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войство материала (в определенных условиях и пределах) сопротивляться разрушению, а также изменению формы под действием внешних или внутренних нагрузок. Параметрами прочности являются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пределы прочности, пропорциональности, текучести, ползучести, выносливости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Деформация 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это изменение формы или размеров изделия или его части под действием внешних сил, при нагревании, охлаждении, изменении влажности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личают два вида деформации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упругую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счезающую после устранения воздействий, вызвавших деформацию, и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ластическую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стающуюся после удаления нагруз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характеристики надежности по параметрам прочности нередко используется термин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прочностная надежность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од этим термином понимается свойство машин, конструкций и их элементов сохранять во времени работоспособное состояние при воздействии на него внешних нагруз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казы по параметрам прочности чаще всего связаны с изломом деталей машин или элементов конструкций или их деформацией.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Изломы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разделяются на две большие группы: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хрупкие и вязк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хрупким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ломом понимают излом без признаков макроскопических пластических деформ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Пластическому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вязкому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злому предшествует макроскопическая пластическая деформация, вызванная сдвигом в плоскостях скольжения или плоскостях скола и по границам зер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работе изделий в условиях высоких температур важной характеристикой прочностной надежности является ресурс по ползуч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Ползуче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— это явление, заключающееся в том, что металл, нагруженный при высокой температуре, непрерывно деформируется под воздействием постоянных во времени напря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многократно повторяющихся температурных напряжениях наблюдаетс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термическая (малоцикловая) устало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еталла. Ползучесть и термическая усталость, как правило, взаимодействуют друг с другом и оба вида этих разрушений происходят одновремен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иды изнашивания деталей автомобил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559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Диаграмма изнашивания и методы измерения износа деталей автомобиле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256360" cy="323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95280" y="4437000"/>
          <a:ext cx="8280360" cy="1738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193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приработки;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</a:t>
                      </a:r>
                      <a:r>
                        <a:rPr b="0" i="1" lang="ru-RU" sz="1800" spc="-1" strike="noStrike" baseline="-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стабильного или нормальног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я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предельного изнашива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ускоренног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ния д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ического износа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изнашивание после критического износа); α —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ол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зующий наклон касательной к графику, характеризующ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ния; И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начальный износ; И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критический из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425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4. Наиболее распространенные способы и методы обеспечения и прогнозирования надежности, используемые при создании маши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чины потери работоспособности и виды повреждений элементо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изико-химические процессы разрушения материал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тказы по параметрам проч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способы и методы обеспечения и прогнозирования надежности, используемые при создании маш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сновными способами обеспечения надежности технических систем являются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структив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ологические (при проектировании и изготовлении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ксплуатационные (при эксплуатации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Современные методы прогнозирования могут быть разделены на три основные группы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методы экспертных оцено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методы моделирования, включающие физические, физико-математические и информационные моде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статистические мет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Методы экспертных оцен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заключаются в обобщении, статис­тической обработке и анализе мнений специалистов относительно перспектив развития данной облас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Методы моделирован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базируются на основных положениях теории подоб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Статистические метод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рогнозирования основаны на экстраполяции и интерполяции прогнозируемых параметров надежности, полученных в результате предварительных исследований. В основу этих методов положены закономерности изменения параметров надежности машин во време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6518" t="3525" r="10591" b="13931"/>
          <a:stretch/>
        </p:blipFill>
        <p:spPr>
          <a:xfrm>
            <a:off x="395280" y="0"/>
            <a:ext cx="8280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353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чины потери работоспособности и виды повреждений элементов маши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чины отказа — это явления, процессы, события и состояния, обусловившие возникновение отказа объ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стояниями объектов, являющимися причиной отказов, могут бы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сутствие защиты от попадания пыли и влаг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остаточных напряжений или концентраторов напря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кро- и микротрещины, дефекты сборки, наличие рисок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В сфере производства отказы возникают в результате несовершенства или нарушения установленного процесса изготовления или ремонта объекта, выполнявшегося на ремонтном предприятии. К наиболее типичным дефектам технологии следует отнести: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из-за неправильного состава материала (включения, примеси, повышающие хрупкость и т.д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при плавке и изготовлении заготовок (пористость, усадочные раковины, неметаллические включения, расслоен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шибки при механической обработке (ожоги, задиры, заусенцы, трещины, прорезы, избыточная локальная пластическая деформа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сварки (трещины, остаточные напряжения, углубления, недостаточная глубина шва, термическое повреждение отдельных участков основного материала и т.д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термообработки (перегрев, закалочные трещины, обезуглероживание, избыточные остаточные аустениты и др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при обработке поверхностей (химическая диффузия, водородное охрупчивание, снижение механических свойств материала и др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сборки (повреждения поверхностей, задиры, внесение абразива, несоответствие размеров деталей и др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К эксплуатационным относятся отказы, возникшие в резуль­тате нарушения установленных правил и (или) условий эксплуатации объекта (неправильное техническое обслуживание, низкое качество запасных частей, появление перегрузок, использование не по назначению и т.д.)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2636640"/>
            <a:ext cx="87854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сследовании причин отказов в первую очередь должен быть проведен анализ режимов и условий эксплуатации и действующих нагрузок. Нагрузки, воздействующие на технические устройства, могут быть подразделены на дв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рузки, обусловленные внешними воздействующими факторами (ВВФ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рузки, обусловленные функционированием самого издел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Физико-химические процессы разрушения материал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0560" y="90756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Физико-химические процесс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приводящие к отказам, могут быть классифицированы на группы в зависимости от вида материала, места протекания процесса, вида энергии, определяющего характер процесса, вида эксплуатационного воздействия характера (внутреннего механизма) процес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5T07:44:46Z</dcterms:modified>
  <cp:revision>10</cp:revision>
  <dc:subject/>
  <dc:title>Лекция  № 12 </dc:title>
</cp:coreProperties>
</file>